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7CC-A652-467F-9088-9AC0314A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022-B48E-4C05-B63B-EC48027D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EF5-3E5D-4FC8-A454-BC479DD8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21E-71F4-4CF0-AD21-7D674049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152B-CE35-483D-AE80-FCE0A3A8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D195-CCAD-477A-B425-B5B47A6C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A5EA-8532-4A23-8658-63B1C6F4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D5D6-A81E-4D3D-86F6-52AE60EF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C909-365C-4D2D-8100-DD8C23F2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7EE4-0ABF-4E3A-8113-D61E3BB4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7FD8-9A78-4FE4-9B93-649AC54B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F069-65F1-4ECF-B567-4ED51100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6FEB-7C58-4BF9-A128-EE9F2543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3D6D-83A2-4BD4-A0D2-3DC4F18B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C12E-0F16-4173-AD89-CC4EF7E0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77AA-2472-46BB-81E3-C7698BA5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2331-695A-430C-BB55-30EF2BAB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D5A35-8EC9-4852-9CF1-0ED8D8E1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8BC2E-876B-4AF1-88B1-3CB5048E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17305-0AA9-40D2-8CE7-08513FA4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6497B-5FBC-45BD-BFDA-1816C967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9EA21-2322-43E3-82FD-049EE8C4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1F5C-6FA3-4A14-B087-2FC0876E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95895-3CBB-4D3C-871A-E3044EFC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FC5D9-E1DF-4FA6-B6CE-1FD86751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2CA92-224A-4A62-9D01-74F1A680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52F4D-0907-455B-917F-DE2D042D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51C6A-7F2D-4ABD-91FA-AFDE79C2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19EB1-9867-4A36-A2B0-CC3DBCAF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FDB2A-769F-43F8-B8CB-DC2DD2AB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23703-7A88-4D5B-81B7-500089E4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3DC23-9E79-4539-9751-C7EB3207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ADDB6-B2FB-4273-AA74-0132B6BD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0457-8295-4FCF-9670-F162047D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1B910-EA43-4F63-BE1E-5B763A94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215F7-AC73-4C8C-B828-6D73E55A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CAB6A-61B9-46A8-87D8-D3E446D6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17F18-5787-4990-9ADB-C79F613C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842C2-1EB7-4CB7-BBD0-71FC8297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8E57-C6BD-471E-9A76-C14A04EB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02CB1-D40C-41AC-95C8-75A10A08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9C77E-0B8D-4B8D-8030-6A80F461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4D43F-A79E-4B51-A9B7-0416EFB7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510C2-98D5-4BA5-896D-D15DEE6B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647-FA9E-4950-A0D0-F2083AC8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8C096-31C1-436E-895B-72C01B58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94025-2348-4984-96F1-141848C7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DCE83-01DA-481C-AF3A-93CC89F9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21BF2-BA2B-4835-8111-7D5E8830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30F3C-DD10-4FEE-AEB3-4D32A9CB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BE7EC-216C-464A-8420-0466FFEB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85D65-D319-467F-A1BC-6930D109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7906B-9885-438A-8863-57CDFD61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6D6F5-CE14-44B9-A4CA-93D1DCE5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5E0E4-977D-4DC2-89BE-C6CC4DA5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44B-D15A-4F51-AD32-AA81D0E4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16C92-554A-4ABD-B64A-FE20205C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43EB3-2B62-4ABF-AACB-F20C6CC1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EDEF6-2866-445C-9D3B-C56A3A79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19033-BBBD-4A6E-B63D-AD00D7D1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8C9FD-6E88-4248-9172-528B5FA6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8E324-D453-4704-9D8C-84DF38D2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A3EB0-8CC1-4E44-A271-71AF1DD6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50211-CA86-4035-98C5-93353B37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FB8F2-FCB8-41D2-BA05-82258FAE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A5FEE-30D7-4D8A-926B-18E38B2E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910-9EF2-4B39-A7B7-F8675FDD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8091B-CDB3-417A-9320-E49C8153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93518-F0DA-4B53-9E87-7DD91DA8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FA3BF-C29D-47E1-B499-8044BE34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3AF-F4BD-4F2C-9E18-ABE5F391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5131-9014-441A-88BA-11791A76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4527-64B6-441C-930D-0A32AB1C8C96}" type="slidenum">
              <a:rPr b="0" lang="en-MY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14C1-9480-448C-A64C-249CC832944A}" type="slidenum">
              <a:rPr b="0" lang="en-MY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D405-E1E1-415D-8EDD-9269C86F04FE}" type="slidenum">
              <a:rPr b="0" lang="en-MY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9ED7-B6ED-4A1D-80FC-B04DF17A7AE1}" type="slidenum">
              <a:rPr b="0" lang="en-MY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C008-C8E8-43D3-8438-0672066FE551}" type="slidenum">
              <a:rPr b="0" lang="en-MY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D209-B646-4E2C-ADEE-2EF24E58EFF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C:\Users\Compaq\Documents\KAJIAN KEPERLUAN\Lampiran 2 - instrumen pernilaian kendiri.doc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hyperlink" Target="C:\Users\Compaq\Documents\KAJIAN KEPERLUAN\Lampiran 3  - ANALISIS KEPERLUAN LATIHAN.doc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C:\Users\Compaq\Documents\KAJIAN KEPERLUAN\Lampiran 4 -Contoh kurus.doc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C:\Users\Compaq\Documents\KAJIAN KEPERLUAN\LAMPIRAN 1 - BIDANG LATIHAN DAN KANDUNGAN KURSUS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285920" y="514332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357960" y="5265720"/>
            <a:ext cx="1357200" cy="116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3"/>
          <p:cNvGraphicFramePr/>
          <p:nvPr/>
        </p:nvGraphicFramePr>
        <p:xfrm>
          <a:off x="1285920" y="5235480"/>
          <a:ext cx="1214280" cy="110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5235480"/>
                    <a:ext cx="121428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Title 5" descr=""/>
          <p:cNvPicPr/>
          <p:nvPr/>
        </p:nvPicPr>
        <p:blipFill>
          <a:blip r:embed="rId4"/>
          <a:stretch/>
        </p:blipFill>
        <p:spPr>
          <a:xfrm>
            <a:off x="401760" y="353880"/>
            <a:ext cx="810252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0" name="Action Button: Information 2">
            <a:hlinkClick r:id="rId2"/>
          </p:cNvPr>
          <p:cNvSpPr/>
          <p:nvPr/>
        </p:nvSpPr>
        <p:spPr>
          <a:xfrm>
            <a:off x="928800" y="2428920"/>
            <a:ext cx="1357200" cy="1643040"/>
          </a:xfrm>
          <a:custGeom>
            <a:avLst/>
            <a:gdLst>
              <a:gd name="textAreaLeft" fmla="*/ 87840 w 1357200"/>
              <a:gd name="textAreaRight" fmla="*/ 1269360 w 1357200"/>
              <a:gd name="textAreaTop" fmla="*/ 87840 h 1643040"/>
              <a:gd name="textAreaBottom" fmla="*/ 1555200 h 1643040"/>
            </a:gdLst>
            <a:ahLst/>
            <a:rect l="textAreaLeft" t="textAreaTop" r="textAreaRight" b="textAreaBottom"/>
            <a:pathLst>
              <a:path w="21600" h="26148">
                <a:moveTo>
                  <a:pt x="0" y="0"/>
                </a:moveTo>
                <a:lnTo>
                  <a:pt x="21600" y="0"/>
                </a:lnTo>
                <a:lnTo>
                  <a:pt x="21600" y="26148"/>
                </a:lnTo>
                <a:lnTo>
                  <a:pt x="0" y="26148"/>
                </a:lnTo>
                <a:close/>
              </a:path>
              <a:path fill="lightenLess" w="21600" h="261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48">
                <a:moveTo>
                  <a:pt x="21600" y="0"/>
                </a:moveTo>
                <a:lnTo>
                  <a:pt x="21600" y="26148"/>
                </a:lnTo>
                <a:lnTo>
                  <a:pt x="20200" y="24748"/>
                </a:lnTo>
                <a:lnTo>
                  <a:pt x="20200" y="1400"/>
                </a:lnTo>
                <a:close/>
              </a:path>
              <a:path fill="darkenLess" w="21600" h="26148">
                <a:moveTo>
                  <a:pt x="21600" y="26148"/>
                </a:moveTo>
                <a:lnTo>
                  <a:pt x="0" y="26148"/>
                </a:lnTo>
                <a:lnTo>
                  <a:pt x="1400" y="24748"/>
                </a:lnTo>
                <a:lnTo>
                  <a:pt x="20200" y="24748"/>
                </a:lnTo>
                <a:close/>
              </a:path>
              <a:path fill="lighten" w="21600" h="26148">
                <a:moveTo>
                  <a:pt x="0" y="261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48"/>
                </a:lnTo>
                <a:close/>
              </a:path>
              <a:path fill="darken" w="21600" h="26148">
                <a:moveTo>
                  <a:pt x="10800" y="606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6148">
                <a:moveTo>
                  <a:pt x="10800" y="644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6148">
                <a:moveTo>
                  <a:pt x="8224" y="10498"/>
                </a:moveTo>
                <a:lnTo>
                  <a:pt x="12088" y="10498"/>
                </a:lnTo>
                <a:lnTo>
                  <a:pt x="12088" y="17495"/>
                </a:lnTo>
                <a:lnTo>
                  <a:pt x="13376" y="17495"/>
                </a:lnTo>
                <a:lnTo>
                  <a:pt x="13376" y="18418"/>
                </a:lnTo>
                <a:lnTo>
                  <a:pt x="8224" y="18418"/>
                </a:lnTo>
                <a:lnTo>
                  <a:pt x="8224" y="17495"/>
                </a:lnTo>
                <a:lnTo>
                  <a:pt x="9512" y="17495"/>
                </a:lnTo>
                <a:lnTo>
                  <a:pt x="9512" y="11403"/>
                </a:lnTo>
                <a:lnTo>
                  <a:pt x="8224" y="11403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Rectangle 3" descr=""/>
          <p:cNvPicPr/>
          <p:nvPr/>
        </p:nvPicPr>
        <p:blipFill>
          <a:blip r:embed="rId3"/>
          <a:stretch/>
        </p:blipFill>
        <p:spPr>
          <a:xfrm>
            <a:off x="-96840" y="4065480"/>
            <a:ext cx="3876840" cy="542880"/>
          </a:xfrm>
          <a:prstGeom prst="rect">
            <a:avLst/>
          </a:prstGeom>
          <a:ln w="0">
            <a:noFill/>
          </a:ln>
        </p:spPr>
      </p:pic>
      <p:pic>
        <p:nvPicPr>
          <p:cNvPr id="292" name="Rectangle 5" descr=""/>
          <p:cNvPicPr/>
          <p:nvPr/>
        </p:nvPicPr>
        <p:blipFill>
          <a:blip r:embed="rId4"/>
          <a:stretch/>
        </p:blipFill>
        <p:spPr>
          <a:xfrm>
            <a:off x="3902040" y="4065480"/>
            <a:ext cx="4052880" cy="5428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714240" y="4714920"/>
            <a:ext cx="1785960" cy="28584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ampiran 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5000760" y="4714920"/>
            <a:ext cx="1785960" cy="28584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ampiran 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Action Button: Information 9">
            <a:hlinkClick r:id="rId5"/>
          </p:cNvPr>
          <p:cNvSpPr/>
          <p:nvPr/>
        </p:nvSpPr>
        <p:spPr>
          <a:xfrm>
            <a:off x="5000760" y="2428920"/>
            <a:ext cx="1357200" cy="1643040"/>
          </a:xfrm>
          <a:custGeom>
            <a:avLst/>
            <a:gdLst>
              <a:gd name="textAreaLeft" fmla="*/ 87840 w 1357200"/>
              <a:gd name="textAreaRight" fmla="*/ 1269360 w 1357200"/>
              <a:gd name="textAreaTop" fmla="*/ 87840 h 1643040"/>
              <a:gd name="textAreaBottom" fmla="*/ 1555200 h 1643040"/>
            </a:gdLst>
            <a:ahLst/>
            <a:rect l="textAreaLeft" t="textAreaTop" r="textAreaRight" b="textAreaBottom"/>
            <a:pathLst>
              <a:path w="21600" h="26148">
                <a:moveTo>
                  <a:pt x="0" y="0"/>
                </a:moveTo>
                <a:lnTo>
                  <a:pt x="21600" y="0"/>
                </a:lnTo>
                <a:lnTo>
                  <a:pt x="21600" y="26148"/>
                </a:lnTo>
                <a:lnTo>
                  <a:pt x="0" y="26148"/>
                </a:lnTo>
                <a:close/>
              </a:path>
              <a:path fill="lightenLess" w="21600" h="261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48">
                <a:moveTo>
                  <a:pt x="21600" y="0"/>
                </a:moveTo>
                <a:lnTo>
                  <a:pt x="21600" y="26148"/>
                </a:lnTo>
                <a:lnTo>
                  <a:pt x="20200" y="24748"/>
                </a:lnTo>
                <a:lnTo>
                  <a:pt x="20200" y="1400"/>
                </a:lnTo>
                <a:close/>
              </a:path>
              <a:path fill="darkenLess" w="21600" h="26148">
                <a:moveTo>
                  <a:pt x="21600" y="26148"/>
                </a:moveTo>
                <a:lnTo>
                  <a:pt x="0" y="26148"/>
                </a:lnTo>
                <a:lnTo>
                  <a:pt x="1400" y="24748"/>
                </a:lnTo>
                <a:lnTo>
                  <a:pt x="20200" y="24748"/>
                </a:lnTo>
                <a:close/>
              </a:path>
              <a:path fill="lighten" w="21600" h="26148">
                <a:moveTo>
                  <a:pt x="0" y="261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48"/>
                </a:lnTo>
                <a:close/>
              </a:path>
              <a:path fill="darken" w="21600" h="26148">
                <a:moveTo>
                  <a:pt x="10800" y="606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6148">
                <a:moveTo>
                  <a:pt x="10800" y="644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6148">
                <a:moveTo>
                  <a:pt x="8224" y="10498"/>
                </a:moveTo>
                <a:lnTo>
                  <a:pt x="12088" y="10498"/>
                </a:lnTo>
                <a:lnTo>
                  <a:pt x="12088" y="17495"/>
                </a:lnTo>
                <a:lnTo>
                  <a:pt x="13376" y="17495"/>
                </a:lnTo>
                <a:lnTo>
                  <a:pt x="13376" y="18418"/>
                </a:lnTo>
                <a:lnTo>
                  <a:pt x="8224" y="18418"/>
                </a:lnTo>
                <a:lnTo>
                  <a:pt x="8224" y="17495"/>
                </a:lnTo>
                <a:lnTo>
                  <a:pt x="9512" y="17495"/>
                </a:lnTo>
                <a:lnTo>
                  <a:pt x="9512" y="11403"/>
                </a:lnTo>
                <a:lnTo>
                  <a:pt x="8224" y="11403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714240" y="1714680"/>
            <a:ext cx="7286760" cy="3714480"/>
          </a:xfrm>
          <a:prstGeom prst="rect">
            <a:avLst/>
          </a:prstGeom>
          <a:gradFill rotWithShape="0">
            <a:gsLst>
              <a:gs pos="0">
                <a:srgbClr val="ce94a2"/>
              </a:gs>
              <a:gs pos="100000">
                <a:srgbClr val="ca5c7b"/>
              </a:gs>
            </a:gsLst>
            <a:lin ang="5400000"/>
          </a:gradFill>
          <a:ln w="11520">
            <a:solidFill>
              <a:srgbClr val="b83d68"/>
            </a:solidFill>
            <a:miter/>
          </a:ln>
          <a:effectLst>
            <a:outerShdw dist="12600" dir="5400000" blurRad="0" rotWithShape="0">
              <a:srgbClr val="6f213c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GKEL 2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1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6540480" cy="1125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8000" y="1699920"/>
            <a:ext cx="684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i kumpulan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gasan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dasarkan dapatan bengkel 1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mpiran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lengkapkan borang yang diberi selepas mengenalpasti objektif dan kompetensi bagi setiap kursus yang dicadangka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Pilih skop bidang yang bersesuaian untuk cadangan kursus itu berdasarkan kepada Kandungan Kursus (Perincian Kursu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-49536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tangkan hasil kerja kumpulan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Diagram 3" descr=""/>
          <p:cNvPicPr/>
          <p:nvPr/>
        </p:nvPicPr>
        <p:blipFill>
          <a:blip r:embed="rId1"/>
          <a:stretch/>
        </p:blipFill>
        <p:spPr>
          <a:xfrm>
            <a:off x="493560" y="476280"/>
            <a:ext cx="729792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6735600" cy="1150920"/>
          </a:xfrm>
          <a:prstGeom prst="rect">
            <a:avLst/>
          </a:prstGeom>
          <a:ln w="0">
            <a:noFill/>
          </a:ln>
        </p:spPr>
      </p:pic>
      <p:sp>
        <p:nvSpPr>
          <p:cNvPr id="301" name="Action Button: Information 6">
            <a:hlinkClick r:id="rId2"/>
          </p:cNvPr>
          <p:cNvSpPr/>
          <p:nvPr/>
        </p:nvSpPr>
        <p:spPr>
          <a:xfrm>
            <a:off x="2428920" y="2428920"/>
            <a:ext cx="2500200" cy="2571840"/>
          </a:xfrm>
          <a:custGeom>
            <a:avLst/>
            <a:gdLst>
              <a:gd name="textAreaLeft" fmla="*/ 162000 w 2500200"/>
              <a:gd name="textAreaRight" fmla="*/ 2338200 w 2500200"/>
              <a:gd name="textAreaTop" fmla="*/ 162000 h 2571840"/>
              <a:gd name="textAreaBottom" fmla="*/ 2409840 h 2571840"/>
            </a:gdLst>
            <a:ahLst/>
            <a:rect l="textAreaLeft" t="textAreaTop" r="textAreaRight" b="textAreaBottom"/>
            <a:pathLst>
              <a:path w="21600" h="22219">
                <a:moveTo>
                  <a:pt x="0" y="0"/>
                </a:moveTo>
                <a:lnTo>
                  <a:pt x="21600" y="0"/>
                </a:lnTo>
                <a:lnTo>
                  <a:pt x="21600" y="22219"/>
                </a:lnTo>
                <a:lnTo>
                  <a:pt x="0" y="22219"/>
                </a:lnTo>
                <a:close/>
              </a:path>
              <a:path fill="lightenLess" w="21600" h="222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19">
                <a:moveTo>
                  <a:pt x="21600" y="0"/>
                </a:moveTo>
                <a:lnTo>
                  <a:pt x="21600" y="22219"/>
                </a:lnTo>
                <a:lnTo>
                  <a:pt x="20200" y="20819"/>
                </a:lnTo>
                <a:lnTo>
                  <a:pt x="20200" y="1400"/>
                </a:lnTo>
                <a:close/>
              </a:path>
              <a:path fill="darkenLess" w="21600" h="22219">
                <a:moveTo>
                  <a:pt x="21600" y="22219"/>
                </a:moveTo>
                <a:lnTo>
                  <a:pt x="0" y="22219"/>
                </a:lnTo>
                <a:lnTo>
                  <a:pt x="1400" y="20819"/>
                </a:lnTo>
                <a:lnTo>
                  <a:pt x="20200" y="20819"/>
                </a:lnTo>
                <a:close/>
              </a:path>
              <a:path fill="lighten" w="21600" h="22219">
                <a:moveTo>
                  <a:pt x="0" y="222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19"/>
                </a:lnTo>
                <a:close/>
              </a:path>
              <a:path fill="darken" w="21600" h="22219">
                <a:moveTo>
                  <a:pt x="10800" y="4103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219">
                <a:moveTo>
                  <a:pt x="10800" y="4477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219">
                <a:moveTo>
                  <a:pt x="8224" y="8533"/>
                </a:moveTo>
                <a:lnTo>
                  <a:pt x="12088" y="8533"/>
                </a:lnTo>
                <a:lnTo>
                  <a:pt x="12088" y="15531"/>
                </a:lnTo>
                <a:lnTo>
                  <a:pt x="13376" y="15531"/>
                </a:lnTo>
                <a:lnTo>
                  <a:pt x="13376" y="16453"/>
                </a:lnTo>
                <a:lnTo>
                  <a:pt x="8224" y="16453"/>
                </a:lnTo>
                <a:lnTo>
                  <a:pt x="8224" y="15531"/>
                </a:lnTo>
                <a:lnTo>
                  <a:pt x="9512" y="15531"/>
                </a:lnTo>
                <a:lnTo>
                  <a:pt x="9512" y="9438"/>
                </a:lnTo>
                <a:lnTo>
                  <a:pt x="8224" y="9438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2500200" y="5286240"/>
            <a:ext cx="2286000" cy="35748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ampiran 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755640" y="1341360"/>
            <a:ext cx="6665760" cy="3440160"/>
          </a:xfrm>
          <a:prstGeom prst="rect">
            <a:avLst/>
          </a:prstGeom>
          <a:gradFill rotWithShape="0">
            <a:gsLst>
              <a:gs pos="0">
                <a:srgbClr val="ce94a2"/>
              </a:gs>
              <a:gs pos="100000">
                <a:srgbClr val="ca5c7b"/>
              </a:gs>
            </a:gsLst>
            <a:lin ang="5400000"/>
          </a:gradFill>
          <a:ln w="11520">
            <a:solidFill>
              <a:srgbClr val="b83d68"/>
            </a:solidFill>
            <a:miter/>
          </a:ln>
          <a:effectLst>
            <a:outerShdw dist="12600" dir="5400000" blurRad="0" rotWithShape="0">
              <a:srgbClr val="6f213c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WIM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4"/>
          <p:cNvSpPr txBox="1"/>
          <p:nvPr/>
        </p:nvSpPr>
        <p:spPr>
          <a:xfrm>
            <a:off x="611280" y="281160"/>
            <a:ext cx="712944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TOH TAKWIM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ELAKSANAAN LATIHAN GURU SECARA 'SCHOOL BASED'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EKOLAH KEBANGSAAN .......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79280" y="1341360"/>
          <a:ext cx="7885080" cy="4792680"/>
        </p:xfrm>
        <a:graphic>
          <a:graphicData uri="http://schemas.openxmlformats.org/drawingml/2006/table">
            <a:tbl>
              <a:tblPr/>
              <a:tblGrid>
                <a:gridCol w="639720"/>
                <a:gridCol w="2926080"/>
                <a:gridCol w="1618920"/>
                <a:gridCol w="1586160"/>
                <a:gridCol w="1114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ndak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kh Pelaksana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ang kajian keperluan LDP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-B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a SPSS bagi keperluan kursus LDP sepanjang tah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/9/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bentukan Jawatankuasa LDP di Peringkat sekol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etua / Guru Besar dan SU 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01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yuarat Jawatankuasa LDP kali pertama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etua / Guru Besar dan SU 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02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sus LDP kali Pertama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dan AJK 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04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214200" y="357120"/>
          <a:ext cx="7929720" cy="6215040"/>
        </p:xfrm>
        <a:graphic>
          <a:graphicData uri="http://schemas.openxmlformats.org/drawingml/2006/table">
            <a:tbl>
              <a:tblPr/>
              <a:tblGrid>
                <a:gridCol w="895320"/>
                <a:gridCol w="2260800"/>
                <a:gridCol w="1380960"/>
                <a:gridCol w="1578240"/>
                <a:gridCol w="181440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k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ndak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kh Pelaksana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06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aporan Ke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4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Hari selepas kur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hantaran laporan bulanan ke PPD/JP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poran prestasi kewangan LD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4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iap hujung bu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hantaran Laporan Kutipan Maklumat KM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takluk kepada JPN nege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714240" y="1714680"/>
            <a:ext cx="7286760" cy="3714480"/>
          </a:xfrm>
          <a:prstGeom prst="rect">
            <a:avLst/>
          </a:prstGeom>
          <a:gradFill rotWithShape="0">
            <a:gsLst>
              <a:gs pos="0">
                <a:srgbClr val="ce94a2"/>
              </a:gs>
              <a:gs pos="100000">
                <a:srgbClr val="ca5c7b"/>
              </a:gs>
            </a:gsLst>
            <a:lin ang="5400000"/>
          </a:gradFill>
          <a:ln w="11520">
            <a:solidFill>
              <a:srgbClr val="b83d68"/>
            </a:solidFill>
            <a:miter/>
          </a:ln>
          <a:effectLst>
            <a:outerShdw dist="12600" dir="5400000" blurRad="0" rotWithShape="0">
              <a:srgbClr val="6f213c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GKEL 3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5849640" cy="114624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500040" y="1483920"/>
            <a:ext cx="721512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i kumpula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gasan 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lih 4 kursus yang telah dicadangkan dalam Bengkel 1 dan bina Takwim Pelaksanaan Latihan Guru Secar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hool-Bas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uk Tahun 2010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tangkan hasil kerja kumpula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e 1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277040" cy="792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2"/>
          <p:cNvSpPr/>
          <p:nvPr/>
        </p:nvSpPr>
        <p:spPr>
          <a:xfrm>
            <a:off x="428760" y="981000"/>
            <a:ext cx="7500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ngetahui tentang keperluan kursus LDP bagi semua guru sepanjang tahu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njadi satu panduan kepada AJK LDP untuk menentukan kursus yang sesuai diadakan mengikut keperluan guru di sekolah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mudahkan pembinaan takwim untuk pelaksanaan kursus LDP di sekolah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6546600" cy="1888920"/>
          </a:xfrm>
          <a:prstGeom prst="rect">
            <a:avLst/>
          </a:prstGeom>
          <a:ln w="0">
            <a:noFill/>
          </a:ln>
        </p:spPr>
      </p:pic>
      <p:pic>
        <p:nvPicPr>
          <p:cNvPr id="311" name="Rectangle 3" descr=""/>
          <p:cNvPicPr/>
          <p:nvPr/>
        </p:nvPicPr>
        <p:blipFill>
          <a:blip r:embed="rId2"/>
          <a:stretch/>
        </p:blipFill>
        <p:spPr>
          <a:xfrm>
            <a:off x="1706400" y="2755800"/>
            <a:ext cx="467532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Object 2"/>
          <p:cNvGraphicFramePr/>
          <p:nvPr/>
        </p:nvGraphicFramePr>
        <p:xfrm>
          <a:off x="0" y="5686560"/>
          <a:ext cx="128592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86560"/>
                    <a:ext cx="128592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4" name="Picture 2" descr=""/>
          <p:cNvPicPr/>
          <p:nvPr/>
        </p:nvPicPr>
        <p:blipFill>
          <a:blip r:embed="rId5">
            <a:lum bright="20000"/>
          </a:blip>
          <a:stretch/>
        </p:blipFill>
        <p:spPr>
          <a:xfrm>
            <a:off x="6786720" y="5694480"/>
            <a:ext cx="13572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179280" y="2349360"/>
            <a:ext cx="6445440" cy="62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. Pengetahuan Profesionalism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250920" y="3573360"/>
            <a:ext cx="63608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. Kemahiran Profesionalism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250920" y="4724280"/>
            <a:ext cx="6143400" cy="12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Nilai dan Amalan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esionalisme Kegurua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6804000" y="234936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 %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6804000" y="357336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%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6732720" y="508464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%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250920" y="214200"/>
            <a:ext cx="7705800" cy="1559160"/>
          </a:xfrm>
          <a:prstGeom prst="rect">
            <a:avLst/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ajian merangkumi Keperluan Latihan untuk Bidang-bidang berikut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itle 1" descr=""/>
          <p:cNvPicPr/>
          <p:nvPr/>
        </p:nvPicPr>
        <p:blipFill>
          <a:blip r:embed="rId1"/>
          <a:stretch/>
        </p:blipFill>
        <p:spPr>
          <a:xfrm>
            <a:off x="0" y="333360"/>
            <a:ext cx="7858080" cy="8287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"/>
          <p:cNvSpPr/>
          <p:nvPr/>
        </p:nvSpPr>
        <p:spPr>
          <a:xfrm>
            <a:off x="285840" y="1428840"/>
            <a:ext cx="7715160" cy="5168880"/>
          </a:xfrm>
          <a:prstGeom prst="rect">
            <a:avLst/>
          </a:prstGeom>
          <a:solidFill>
            <a:srgbClr val="ffffff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OP LATIHAN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lmu Pengetahuan Pendidikan dan Mata pelajaran / Bidang Pengkhususa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ndungan dan Kaedah Pedagogi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dagogical Content Knowled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ngurusan Kurikulu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reativiti dan Inovasi Pedagogi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7621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2"/>
          <p:cNvSpPr/>
          <p:nvPr/>
        </p:nvSpPr>
        <p:spPr>
          <a:xfrm>
            <a:off x="611280" y="1197000"/>
            <a:ext cx="6192720" cy="5429160"/>
          </a:xfrm>
          <a:prstGeom prst="rect">
            <a:avLst/>
          </a:prstGeom>
          <a:solidFill>
            <a:srgbClr val="ffffff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OP LATIHAN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ejurulatiha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nulisan Ilmia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jian dan Penyelidikan Akademi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epimpinan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ngurusan Kewanga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ngurusan Strategi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Title 1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397640" cy="11764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2"/>
          <p:cNvSpPr/>
          <p:nvPr/>
        </p:nvSpPr>
        <p:spPr>
          <a:xfrm>
            <a:off x="357120" y="1643040"/>
            <a:ext cx="7572600" cy="5072040"/>
          </a:xfrm>
          <a:prstGeom prst="rect">
            <a:avLst/>
          </a:prstGeom>
          <a:solidFill>
            <a:srgbClr val="ffffff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OP LATIHAN 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ilai dan etik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omunikasi berkesa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ft Skil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489800" cy="1063800"/>
          </a:xfrm>
          <a:prstGeom prst="rect">
            <a:avLst/>
          </a:prstGeom>
          <a:ln w="0">
            <a:noFill/>
          </a:ln>
        </p:spPr>
      </p:pic>
      <p:sp>
        <p:nvSpPr>
          <p:cNvPr id="285" name="Action Button: Information 4">
            <a:hlinkClick r:id="rId2"/>
          </p:cNvPr>
          <p:cNvSpPr/>
          <p:nvPr/>
        </p:nvSpPr>
        <p:spPr>
          <a:xfrm>
            <a:off x="3286080" y="2357280"/>
            <a:ext cx="2071800" cy="2500560"/>
          </a:xfrm>
          <a:custGeom>
            <a:avLst/>
            <a:gdLst>
              <a:gd name="textAreaLeft" fmla="*/ 134280 w 2071800"/>
              <a:gd name="textAreaRight" fmla="*/ 1937520 w 2071800"/>
              <a:gd name="textAreaTop" fmla="*/ 134280 h 2500560"/>
              <a:gd name="textAreaBottom" fmla="*/ 2366280 h 2500560"/>
            </a:gdLst>
            <a:ahLst/>
            <a:rect l="textAreaLeft" t="textAreaTop" r="textAreaRight" b="textAreaBottom"/>
            <a:pathLst>
              <a:path w="21600" h="26069">
                <a:moveTo>
                  <a:pt x="0" y="0"/>
                </a:moveTo>
                <a:lnTo>
                  <a:pt x="21600" y="0"/>
                </a:lnTo>
                <a:lnTo>
                  <a:pt x="21600" y="26069"/>
                </a:lnTo>
                <a:lnTo>
                  <a:pt x="0" y="26069"/>
                </a:lnTo>
                <a:close/>
              </a:path>
              <a:path fill="lightenLess" w="21600" h="26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69">
                <a:moveTo>
                  <a:pt x="21600" y="0"/>
                </a:moveTo>
                <a:lnTo>
                  <a:pt x="21600" y="26069"/>
                </a:lnTo>
                <a:lnTo>
                  <a:pt x="20200" y="24669"/>
                </a:lnTo>
                <a:lnTo>
                  <a:pt x="20200" y="1400"/>
                </a:lnTo>
                <a:close/>
              </a:path>
              <a:path fill="darkenLess" w="21600" h="26069">
                <a:moveTo>
                  <a:pt x="21600" y="26069"/>
                </a:moveTo>
                <a:lnTo>
                  <a:pt x="0" y="26069"/>
                </a:lnTo>
                <a:lnTo>
                  <a:pt x="1400" y="24669"/>
                </a:lnTo>
                <a:lnTo>
                  <a:pt x="20200" y="24669"/>
                </a:lnTo>
                <a:close/>
              </a:path>
              <a:path fill="lighten" w="21600" h="26069">
                <a:moveTo>
                  <a:pt x="0" y="26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69"/>
                </a:lnTo>
                <a:close/>
              </a:path>
              <a:path fill="darken" w="21600" h="26069">
                <a:moveTo>
                  <a:pt x="10800" y="602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6069">
                <a:moveTo>
                  <a:pt x="10800" y="640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6069">
                <a:moveTo>
                  <a:pt x="8224" y="10458"/>
                </a:moveTo>
                <a:lnTo>
                  <a:pt x="12088" y="10458"/>
                </a:lnTo>
                <a:lnTo>
                  <a:pt x="12088" y="17456"/>
                </a:lnTo>
                <a:lnTo>
                  <a:pt x="13376" y="17456"/>
                </a:lnTo>
                <a:lnTo>
                  <a:pt x="13376" y="18379"/>
                </a:lnTo>
                <a:lnTo>
                  <a:pt x="8224" y="18379"/>
                </a:lnTo>
                <a:lnTo>
                  <a:pt x="8224" y="17456"/>
                </a:lnTo>
                <a:lnTo>
                  <a:pt x="9512" y="17456"/>
                </a:lnTo>
                <a:lnTo>
                  <a:pt x="9512" y="11364"/>
                </a:lnTo>
                <a:lnTo>
                  <a:pt x="8224" y="11364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714240" y="1714680"/>
            <a:ext cx="7286760" cy="3714480"/>
          </a:xfrm>
          <a:prstGeom prst="rect">
            <a:avLst/>
          </a:prstGeom>
          <a:gradFill rotWithShape="0">
            <a:gsLst>
              <a:gs pos="0">
                <a:srgbClr val="ce94a2"/>
              </a:gs>
              <a:gs pos="100000">
                <a:srgbClr val="ca5c7b"/>
              </a:gs>
            </a:gsLst>
            <a:lin ang="5400000"/>
          </a:gradFill>
          <a:ln w="11520">
            <a:solidFill>
              <a:srgbClr val="b83d68"/>
            </a:solidFill>
            <a:miter/>
          </a:ln>
          <a:effectLst>
            <a:outerShdw dist="12600" dir="5400000" blurRad="0" rotWithShape="0">
              <a:srgbClr val="6f213c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GKEL 1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le 1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6624720" cy="12952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676908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i kumpula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kan borang kajian keperluan yang diberikan secara individu.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mpiran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liskan cadangan kursus-kursus yang anda perlukan untuk meningkatkan profesionalisme and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mpulkan semua borang kajian keperluan dan buat analisa menggunakan borang analisis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Lampiran 3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00:39:24Z</dcterms:created>
  <dc:creator>Compaq</dc:creator>
  <dc:description/>
  <dc:language>en-US</dc:language>
  <cp:lastModifiedBy>[CIMB] sMiLe</cp:lastModifiedBy>
  <dcterms:modified xsi:type="dcterms:W3CDTF">2009-08-27T14:52:59Z</dcterms:modified>
  <cp:revision>73</cp:revision>
  <dc:subject/>
  <dc:title>PENGENALAN</dc:title>
</cp:coreProperties>
</file>