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9E47-C0BB-42F4-8769-7823996F4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5E70-085C-4F5A-84EE-92310807E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B09A-A979-488F-A981-0C8A2F770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F3F4-BE5F-42CB-A4FD-6E1C5E4DD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800B-18DA-47A2-83AA-D3EFAC02B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9AE5-F0DE-47C0-AEA0-C8BBBCDC9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3080-6D4F-48A4-95F1-A993A5322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8EF8-2BCA-4DAE-BB55-E9FA5EB05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E2D0-BBE7-494C-A485-628800254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23EC-4026-475F-B04C-CFD730EA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0BA9-344D-410F-AD94-54E68E100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C35C-852B-47A3-8297-31841E202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D8E93-8E3F-4400-9D6D-1B9EDA5989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219320" y="281160"/>
            <a:ext cx="6933960" cy="86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ONTOH TAKWIM 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PELAKSANAAN LATIHAN GURU SECARA 'SCHOOL BASED'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SEKOLAH KEBANGSAAN .......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304920" y="1397160"/>
          <a:ext cx="8534160" cy="4724280"/>
        </p:xfrm>
        <a:graphic>
          <a:graphicData uri="http://schemas.openxmlformats.org/drawingml/2006/table">
            <a:tbl>
              <a:tblPr/>
              <a:tblGrid>
                <a:gridCol w="609480"/>
                <a:gridCol w="3200400"/>
                <a:gridCol w="1905120"/>
                <a:gridCol w="1600200"/>
                <a:gridCol w="1218960"/>
              </a:tblGrid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ka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ndak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ikh Pelaksana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at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57200" y="914400"/>
          <a:ext cx="8229600" cy="5221440"/>
        </p:xfrm>
        <a:graphic>
          <a:graphicData uri="http://schemas.openxmlformats.org/drawingml/2006/table">
            <a:tbl>
              <a:tblPr/>
              <a:tblGrid>
                <a:gridCol w="587520"/>
                <a:gridCol w="2917800"/>
                <a:gridCol w="1904760"/>
                <a:gridCol w="1570320"/>
                <a:gridCol w="1249200"/>
              </a:tblGrid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ka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ndak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ikh Pelaksana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at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56:02Z</dcterms:created>
  <dc:creator>KPM</dc:creator>
  <dc:description/>
  <dc:language>en-US</dc:language>
  <cp:lastModifiedBy>user</cp:lastModifiedBy>
  <dcterms:modified xsi:type="dcterms:W3CDTF">2009-08-14T01:47:48Z</dcterms:modified>
  <cp:revision>12</cp:revision>
  <dc:subject/>
  <dc:title>Slide 1</dc:title>
</cp:coreProperties>
</file>