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E59F-3597-4DA1-BF66-381259D6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3911-C33D-4B9B-93CD-EB8E14D1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C67-8D91-4FEB-AAE4-6B926145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7F09-BCA4-4120-A9C1-96489EE4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FD19-DB48-4B33-866C-58951F0E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F219-02FF-4508-B405-84021634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396D-C6C6-4E07-BAA5-F755D6EF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49CF-49D4-47EF-ACF7-C3EB5569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B5B6-6EA6-4E1B-AEE6-AC044E83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E670-157D-425A-94BA-4A69933A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71C7-98E7-43C0-9AED-F0DBA1F9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88FA-2F78-4750-9823-0C9DBFB1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96E4-6948-42C4-8D12-14DA51F0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B6D8-ED9D-45D8-A051-059AAA36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255D-A4CB-45DA-A0FF-1BF523D3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088E-1FDF-413D-ACF9-F929182B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90A8-89E9-4D73-88E7-AAD56536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EE514-77BB-477E-AC9B-CFA78369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4FC33-4A76-43B0-B7EF-221B2FCB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57E28-A3C3-44EA-B990-6865F03F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F3C66-F94D-42EE-BAEC-CBEB931B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347C7-5104-42BB-B773-3CA90FE7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E1C9-26DA-4C48-A2EB-EFA2A875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4BFD2-33E7-43AA-AB9C-1BB61D05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97B60-0ADA-40EB-AEC1-1C2BB59E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2C539-3DC0-4D33-BF21-F925C322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F5531-9AB3-4E0D-93B1-F586C563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5E1E9-4F5B-44C8-91DC-F0D9C2DD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02509-AFC5-4AE9-A4D1-1C3B4A80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C3E0B-0F79-4E96-8E9B-D611E379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83A87-9BBA-440D-9EBA-577E08B3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A9CE1-CB31-433E-A293-A2BC46F5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87514-5ABB-4A5F-8C8F-19125CD9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C6C6-3B65-462A-90FC-7E517A7F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D9802-F02C-405C-A4CC-8BAD7CFE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23ADA-FAD1-44F0-B0EA-F08142C8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89E02-7E7A-4F39-8AF5-13CD2795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E9BB1-B308-46A9-B5BE-4282CB50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51AB3-5814-4E79-99DC-3613E29A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7F539-46E7-4DEC-95C1-B138339D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C28FD-FB14-4C1F-8FB0-33CEA83D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12449-54E5-477F-8B8A-0009EE2E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72641-A731-4245-BFB3-BDCF0D7B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78F9-9C7E-4E43-9FB2-23C70785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828B-37D7-466B-9616-10512FF9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031F-B11A-430F-A53C-F988B7B0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741B-E0BC-4899-8263-A62CBBDD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4766-4666-4E59-AED3-9AFDC97A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88D5-2BDA-4300-BB1C-E25CA9327BE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5C9F-B85F-46B0-ABFF-32E5DFF4261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3190-D520-4863-BFA8-A86DB52435E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926F-D1A8-4274-9EF4-01980DCA8BE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51920" y="1447920"/>
            <a:ext cx="8991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Century Schoolbook"/>
              </a:rPr>
              <a:t>GARIS  PANDUAN LDP  </a:t>
            </a:r>
            <a:endParaRPr b="0" lang="en-US" sz="5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Century Schoolbook"/>
              </a:rPr>
              <a:t>SECARA  </a:t>
            </a:r>
            <a:endParaRPr b="0" lang="en-US" sz="5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ff"/>
                </a:solidFill>
                <a:latin typeface="Century Schoolbook"/>
              </a:rPr>
              <a:t>SCHOOL-BASED</a:t>
            </a:r>
            <a:r>
              <a:rPr b="0" lang="en-US" sz="6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  <a:ea typeface="SimSun"/>
              </a:rPr>
              <a:t>5  </a:t>
            </a:r>
            <a:r>
              <a:rPr b="1" lang="en-US" sz="3200" spc="-1" strike="noStrike">
                <a:solidFill>
                  <a:srgbClr val="04617b"/>
                </a:solidFill>
                <a:latin typeface="Calibri"/>
                <a:ea typeface="SimSun"/>
              </a:rPr>
              <a:t>LANGKAH-LANGKAH PELAKSANAA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76320" y="2057400"/>
          <a:ext cx="8839080" cy="3505320"/>
        </p:xfrm>
        <a:graphic>
          <a:graphicData uri="http://schemas.openxmlformats.org/drawingml/2006/table">
            <a:tbl>
              <a:tblPr/>
              <a:tblGrid>
                <a:gridCol w="990360"/>
                <a:gridCol w="5486400"/>
                <a:gridCol w="23623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rkar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28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</a:t>
                      </a:r>
                      <a:r>
                        <a:rPr b="0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entuk 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watankuasa  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 Peringkat Sekolah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ms-MY" sz="3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</a:t>
                      </a:r>
                      <a:r>
                        <a:rPr b="0" i="1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mpiran 1)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getua/ Guru 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ar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6840" y="1934640"/>
            <a:ext cx="403380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52280" y="380880"/>
          <a:ext cx="8763120" cy="6019920"/>
        </p:xfrm>
        <a:graphic>
          <a:graphicData uri="http://schemas.openxmlformats.org/drawingml/2006/table">
            <a:tbl>
              <a:tblPr/>
              <a:tblGrid>
                <a:gridCol w="914400"/>
                <a:gridCol w="5639040"/>
                <a:gridCol w="22096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rkar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52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50"/>
                        </a:spcBef>
                        <a:buClr>
                          <a:srgbClr val="0bd0d9"/>
                        </a:buClr>
                        <a:buSzPct val="95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s-MY" sz="3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</a:t>
                      </a:r>
                      <a:r>
                        <a:rPr b="0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jalankan Kajian    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perluan pada bulan 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/Oktober 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piran 2a</a:t>
                      </a:r>
                      <a:r>
                        <a:rPr b="0" lang="ms-MY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jalankan analisis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ms-MY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</a:t>
                      </a:r>
                      <a:r>
                        <a:rPr b="0" i="1" lang="ms-MY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mpiran 2b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musan analisis</a:t>
                      </a: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D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228600" y="914400"/>
          <a:ext cx="8763120" cy="5630760"/>
        </p:xfrm>
        <a:graphic>
          <a:graphicData uri="http://schemas.openxmlformats.org/drawingml/2006/table">
            <a:tbl>
              <a:tblPr/>
              <a:tblGrid>
                <a:gridCol w="990720"/>
                <a:gridCol w="5111640"/>
                <a:gridCol w="266076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rkar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432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50"/>
                        </a:spcBef>
                        <a:buClr>
                          <a:srgbClr val="0bd0d9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yediakan 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ancangan Tahunan 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rsus LDP  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ms-MY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piran 3</a:t>
                      </a:r>
                      <a:r>
                        <a:rPr b="0" lang="ms-MY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50"/>
                        </a:spcBef>
                        <a:buClr>
                          <a:srgbClr val="0bd0d9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3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yediakan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3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rancangan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3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k</a:t>
                      </a:r>
                      <a:r>
                        <a:rPr b="0" lang="ms-MY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wangan dan takwim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DP*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 buat pada hujung tahun untuk kegunaan tahun berikutny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152280" y="1066680"/>
          <a:ext cx="8839440" cy="4559400"/>
        </p:xfrm>
        <a:graphic>
          <a:graphicData uri="http://schemas.openxmlformats.org/drawingml/2006/table">
            <a:tbl>
              <a:tblPr/>
              <a:tblGrid>
                <a:gridCol w="890640"/>
                <a:gridCol w="5052960"/>
                <a:gridCol w="28958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rkar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364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.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limat JPN/ PPD kepada SULDP</a:t>
                      </a:r>
                      <a:r>
                        <a:rPr b="0" lang="en-US" sz="4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gawai JPN/ PPD</a:t>
                      </a:r>
                      <a:r>
                        <a:rPr b="0" lang="en-US" sz="4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152280" y="762120"/>
          <a:ext cx="8763120" cy="5116320"/>
        </p:xfrm>
        <a:graphic>
          <a:graphicData uri="http://schemas.openxmlformats.org/drawingml/2006/table">
            <a:tbl>
              <a:tblPr/>
              <a:tblGrid>
                <a:gridCol w="914400"/>
                <a:gridCol w="5112000"/>
                <a:gridCol w="2736720"/>
              </a:tblGrid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nstantia"/>
                          <a:ea typeface="SimSun"/>
                        </a:rPr>
                        <a:t>B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nstantia"/>
                          <a:ea typeface="SimSun"/>
                        </a:rPr>
                        <a:t>Perkar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nstantia"/>
                          <a:ea typeface="SimSun"/>
                        </a:rPr>
                        <a:t>Tindak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40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  <a:ea typeface="SimSun"/>
                        </a:rPr>
                        <a:t>5.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buClr>
                          <a:srgbClr val="0bd0d9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gadakan 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syuarat LDP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ringkat sekolah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buClr>
                          <a:srgbClr val="0bd0d9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mbahagia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ugas AJK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nstantia"/>
                          <a:ea typeface="SimSun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ngetuaGuru Besar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ULD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152280" y="304920"/>
          <a:ext cx="8458200" cy="6319800"/>
        </p:xfrm>
        <a:graphic>
          <a:graphicData uri="http://schemas.openxmlformats.org/drawingml/2006/table">
            <a:tbl>
              <a:tblPr/>
              <a:tblGrid>
                <a:gridCol w="838080"/>
                <a:gridCol w="5257800"/>
                <a:gridCol w="2362320"/>
              </a:tblGrid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rkar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499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yediakan Fail untuk dokumentas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 Pengurusa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 Dokumen LD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 Pelaksanaan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D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nolong SULDP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934640"/>
            <a:ext cx="403380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685800"/>
          <a:ext cx="8534160" cy="4632480"/>
        </p:xfrm>
        <a:graphic>
          <a:graphicData uri="http://schemas.openxmlformats.org/drawingml/2006/table">
            <a:tbl>
              <a:tblPr/>
              <a:tblGrid>
                <a:gridCol w="838080"/>
                <a:gridCol w="5410080"/>
                <a:gridCol w="228600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rkar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33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.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yediaka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tas Kerja LDP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ms-MY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mpiran 4)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D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1934640"/>
            <a:ext cx="403380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04920" y="228600"/>
          <a:ext cx="8839080" cy="5929200"/>
        </p:xfrm>
        <a:graphic>
          <a:graphicData uri="http://schemas.openxmlformats.org/drawingml/2006/table">
            <a:tbl>
              <a:tblPr/>
              <a:tblGrid>
                <a:gridCol w="1143000"/>
                <a:gridCol w="5257800"/>
                <a:gridCol w="2438280"/>
              </a:tblGrid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nstantia"/>
                          <a:ea typeface="SimSun"/>
                        </a:rPr>
                        <a:t>B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nstantia"/>
                          <a:ea typeface="SimSun"/>
                        </a:rPr>
                        <a:t>Perkar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nstantia"/>
                          <a:ea typeface="SimSun"/>
                        </a:rPr>
                        <a:t>Tindak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51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  <a:ea typeface="SimSun"/>
                        </a:rPr>
                        <a:t>5.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mohon kelulus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ripada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bd0d9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P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bd0d9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ngetu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bd0d9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uru Besar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6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sebulan</a:t>
                      </a:r>
                      <a:r>
                        <a:rPr b="0" lang="ms-MY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sebelum LD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jalankan (</a:t>
                      </a:r>
                      <a:r>
                        <a:rPr b="0" i="1" lang="ms-MY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mpiran 5)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LD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80880" y="304920"/>
          <a:ext cx="8382240" cy="5486400"/>
        </p:xfrm>
        <a:graphic>
          <a:graphicData uri="http://schemas.openxmlformats.org/drawingml/2006/table">
            <a:tbl>
              <a:tblPr/>
              <a:tblGrid>
                <a:gridCol w="1005120"/>
                <a:gridCol w="5014800"/>
                <a:gridCol w="236232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kar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481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.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yediakan dan menghantar Pesanan Tempatan kepada PPD/Pengetua/Guru Besar </a:t>
                      </a:r>
                      <a:r>
                        <a:rPr b="0" lang="ms-MY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ua minggu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belum pelaksanaan LD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takan dokumen-dokumen yang berkaitan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。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o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inan Penyata Bank pembek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inan Sijil Pendaftara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niagaan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ULD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mbantu Tadb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04920" y="304920"/>
          <a:ext cx="8458200" cy="6324480"/>
        </p:xfrm>
        <a:graphic>
          <a:graphicData uri="http://schemas.openxmlformats.org/drawingml/2006/table">
            <a:tbl>
              <a:tblPr/>
              <a:tblGrid>
                <a:gridCol w="1218960"/>
                <a:gridCol w="4648320"/>
                <a:gridCol w="2590920"/>
              </a:tblGrid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ka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554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.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jalankan Kursus / Pemantauan / Penila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aksanaan (Pr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yediakan perkara-perkara yang berkenaan deng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at jemputan penceramah &amp;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at Panggilan Peserta (gun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head  PPD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uk sekola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kan PTJ / letterhead sekola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uk sekolah PTJ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ULD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onstantia"/>
                <a:ea typeface="SimSun"/>
              </a:rPr>
              <a:t>GARIS PANDUAN PELAKSANAA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SimSu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SimSun"/>
              </a:rPr>
              <a:t>LATIHAN DALAM PERKHIDMATAN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SimSun"/>
              </a:rPr>
              <a:t>SECARA 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  <a:ea typeface="SimSun"/>
              </a:rPr>
              <a:t>SCHOOL-BAS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SimSun"/>
              </a:rPr>
              <a:t>TAHUN  200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  <a:ea typeface="SimSun"/>
              </a:rPr>
              <a:t>---------------------------------------------------------------------------------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onstantia"/>
                <a:ea typeface="SimSun"/>
              </a:rPr>
              <a:t>PENGENALA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800" spc="-1" strike="noStrike">
                <a:solidFill>
                  <a:srgbClr val="000000"/>
                </a:solidFill>
                <a:latin typeface="Constantia"/>
                <a:ea typeface="SimSun"/>
              </a:rPr>
              <a:t>Mesyuarat Profesional KPM Bil. 7/2007 bertarikh 21 November 2007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800" spc="-1" strike="noStrike">
                <a:solidFill>
                  <a:srgbClr val="000000"/>
                </a:solidFill>
                <a:latin typeface="Constantia"/>
                <a:ea typeface="SimSun"/>
              </a:rPr>
              <a:t>Semua Pegawai Perkhidmatan Pendidikan, KPM, diperlukan mengikuti kursus </a:t>
            </a:r>
            <a:r>
              <a:rPr b="1" lang="ms-MY" sz="2800" spc="-1" strike="noStrike">
                <a:solidFill>
                  <a:srgbClr val="ff0000"/>
                </a:solidFill>
                <a:latin typeface="Constantia"/>
                <a:ea typeface="SimSun"/>
              </a:rPr>
              <a:t>sekurang-kurangnya tujuh hari setahu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80880" y="304920"/>
          <a:ext cx="8382240" cy="6318000"/>
        </p:xfrm>
        <a:graphic>
          <a:graphicData uri="http://schemas.openxmlformats.org/drawingml/2006/table">
            <a:tbl>
              <a:tblPr/>
              <a:tblGrid>
                <a:gridCol w="1005120"/>
                <a:gridCol w="4464000"/>
                <a:gridCol w="29131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ka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569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.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41904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ghantaran Borang Senarai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41904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k Pengurusan Kewanga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41904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pada PPD/Pengetua/GB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41904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piran 6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41904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ahan makanan, tempat,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41904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alata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41904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yediaa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41904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han edaran kepada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41904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er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41904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Arial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ang profil penceramah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41904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i="1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mpiran 7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41904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ang Profil Peserta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41904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i="1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mpiran 8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9040" indent="-41904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Arial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dual tentatif progra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ULD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nolong SULD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JK LD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80880" y="304920"/>
          <a:ext cx="8382240" cy="5332320"/>
        </p:xfrm>
        <a:graphic>
          <a:graphicData uri="http://schemas.openxmlformats.org/drawingml/2006/table">
            <a:tbl>
              <a:tblPr/>
              <a:tblGrid>
                <a:gridCol w="1005120"/>
                <a:gridCol w="4464000"/>
                <a:gridCol w="2913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ka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512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aksanaan (Semasa kursu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gisi Borang Profil Peser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gisi Borang Kehadiran Pesert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piran 9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gisi Borang Penilaian Progra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piran 10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uat rakaman/fotograf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aksanakan pemantauan kursu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eh Pengetua/GB (</a:t>
                      </a:r>
                      <a:r>
                        <a:rPr b="0" i="1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piran 11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gumpul borang penilai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gumpul Kad Pelaporan Latih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gesahkan Kad Pelapor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h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serta Kurs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JK L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ngetua /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JK L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UL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ngetua/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0880" y="304920"/>
          <a:ext cx="8382240" cy="5486400"/>
        </p:xfrm>
        <a:graphic>
          <a:graphicData uri="http://schemas.openxmlformats.org/drawingml/2006/table">
            <a:tbl>
              <a:tblPr/>
              <a:tblGrid>
                <a:gridCol w="1005120"/>
                <a:gridCol w="4464000"/>
                <a:gridCol w="291312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ka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481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aksanaan (Selepas Kursu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gadakan mesyuar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-mor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asukkan data KMLP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piran 12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engkapkan Senarai Semak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ndungan Fail (</a:t>
                      </a:r>
                      <a:r>
                        <a:rPr b="0" i="1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piran 13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yediakan sijil (sekali setahu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ganalisis borang penilaian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rsus dan membuat rumusa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ngetua/G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nolong SULD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ULD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JK LD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nolong SULD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80880" y="304920"/>
          <a:ext cx="8382240" cy="5486400"/>
        </p:xfrm>
        <a:graphic>
          <a:graphicData uri="http://schemas.openxmlformats.org/drawingml/2006/table">
            <a:tbl>
              <a:tblPr/>
              <a:tblGrid>
                <a:gridCol w="1005120"/>
                <a:gridCol w="4464000"/>
                <a:gridCol w="291312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ka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481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.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poran Kursu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yediakan Pelaporan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rsus selepas selesai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iap kali kursus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piran 14</a:t>
                      </a: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ghantar Laporan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rsus &amp; laporan KMLDP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 JPN/PPD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kali setahun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April, Julai dan Oktober)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ULD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80880" y="1752480"/>
          <a:ext cx="8382240" cy="5038920"/>
        </p:xfrm>
        <a:graphic>
          <a:graphicData uri="http://schemas.openxmlformats.org/drawingml/2006/table">
            <a:tbl>
              <a:tblPr/>
              <a:tblGrid>
                <a:gridCol w="1005120"/>
                <a:gridCol w="1890720"/>
                <a:gridCol w="5486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wa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48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.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getua / Guru Besa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mpengerusikan mesyuar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mbuat keputusan melaksanaka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kursu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mantau perjalanan kursus (setiap kali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kursus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mantau pengurusan kewanga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kurs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urunkan kuasa kepada Penolo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Kana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sekiranya Pengetua / GB tiada di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kolah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380880" y="1522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6524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38088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91440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762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0  PERANAN JAWATANKU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80880" y="1143000"/>
          <a:ext cx="8382240" cy="5257800"/>
        </p:xfrm>
        <a:graphic>
          <a:graphicData uri="http://schemas.openxmlformats.org/drawingml/2006/table">
            <a:tbl>
              <a:tblPr/>
              <a:tblGrid>
                <a:gridCol w="1005120"/>
                <a:gridCol w="1890720"/>
                <a:gridCol w="5486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wa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478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.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D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mberi taklimat tentang garis pandu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ngoperasian LDP secara </a:t>
                      </a:r>
                      <a:r>
                        <a:rPr b="0" i="1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chool-b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yediakan surat pelantikan AJK L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guruskan surat-menyurat LD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yediakan minit mesyuara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mastikan pengurusan fail dikemaskinik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yediakan borang-bora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i="1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Lampiran 1– 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mastikan pengurusan kewangan kursus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gikut prosedur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yelaraskan kutipan kad pelapor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latihan dan salinan sijil kehadir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380880" y="1522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6524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38088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68580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08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ANAN JAWATAN KU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80880" y="1371600"/>
          <a:ext cx="8382240" cy="5257440"/>
        </p:xfrm>
        <a:graphic>
          <a:graphicData uri="http://schemas.openxmlformats.org/drawingml/2006/table">
            <a:tbl>
              <a:tblPr/>
              <a:tblGrid>
                <a:gridCol w="1005120"/>
                <a:gridCol w="1890720"/>
                <a:gridCol w="5486400"/>
              </a:tblGrid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wa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46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.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D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mbuat perancangan tahunan dan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kewangan kurs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yediakan laporan kursus da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laporan KMLDP mengikut ketetapa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P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ghantar laporan kursus dan lapora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KMLD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3 kali setahun – April, Julai,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Oktober)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380880" y="1522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6524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088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91440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5335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ANAN JAWATANKU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80880" y="1371600"/>
          <a:ext cx="8382240" cy="5257440"/>
        </p:xfrm>
        <a:graphic>
          <a:graphicData uri="http://schemas.openxmlformats.org/drawingml/2006/table">
            <a:tbl>
              <a:tblPr/>
              <a:tblGrid>
                <a:gridCol w="1005120"/>
                <a:gridCol w="1890720"/>
                <a:gridCol w="5486400"/>
              </a:tblGrid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wa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46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.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olong SULD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ganalisis data kajian keperlua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kursus dan rumusa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mbantu menyediakan mini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syuar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lengkapkan senarai semak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kandungan fail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i="1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Lampiran 1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masukkan data dalam tapak KMLDP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lepas  setiap kurs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yediakan laporan KMLD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380880" y="1522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6524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38088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71600" y="91440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762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ANAN JAWATANKU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80880" y="990720"/>
          <a:ext cx="8382240" cy="5541840"/>
        </p:xfrm>
        <a:graphic>
          <a:graphicData uri="http://schemas.openxmlformats.org/drawingml/2006/table">
            <a:tbl>
              <a:tblPr/>
              <a:tblGrid>
                <a:gridCol w="1005120"/>
                <a:gridCol w="1890720"/>
                <a:gridCol w="5486400"/>
              </a:tblGrid>
              <a:tr h="60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wa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49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.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KMP / Ketua Panitia Mata Pelajara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jalankan kajian keperlua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kursus bagi panitia masing-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a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yediakan tempat, makana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an peralat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mbuat penilaian kursu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anit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yediakan laporan kursu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anit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mbuat penilaian kurs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aniti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380880" y="1522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6524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38088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91440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4572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ANAN JAWATANKU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80880" y="1371600"/>
          <a:ext cx="8382240" cy="5419800"/>
        </p:xfrm>
        <a:graphic>
          <a:graphicData uri="http://schemas.openxmlformats.org/drawingml/2006/table">
            <a:tbl>
              <a:tblPr/>
              <a:tblGrid>
                <a:gridCol w="1005120"/>
                <a:gridCol w="1890720"/>
                <a:gridCol w="5486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wa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51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.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JK Lain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unselo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ru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merla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ru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a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Guru Med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Kelab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Guru/Sta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mbantu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</a:t>
                      </a:r>
                      <a:r>
                        <a:rPr b="0" lang="ms-MY" sz="2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adbir   (Kewanga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jadi Pengacara Majl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dapatkan biod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ncerama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guruskan Kad Pelapora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Latih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yusun tentatif program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ndaftaran kehadi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380880" y="1522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6524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38088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371600" y="91440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5335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ANAN JAWATANKU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17b"/>
                </a:solidFill>
                <a:latin typeface="Constantia"/>
                <a:ea typeface="SimSun"/>
              </a:rPr>
              <a:t>     </a:t>
            </a:r>
            <a:r>
              <a:rPr b="1" lang="en-US" sz="2400" spc="-1" strike="noStrike">
                <a:solidFill>
                  <a:srgbClr val="04617b"/>
                </a:solidFill>
                <a:latin typeface="Constantia"/>
                <a:ea typeface="SimSun"/>
              </a:rPr>
              <a:t>2.      DEFINISI LATIHAN GURU SECARA </a:t>
            </a:r>
            <a:r>
              <a:rPr b="1" i="1" lang="en-US" sz="2400" spc="-1" strike="noStrike">
                <a:solidFill>
                  <a:srgbClr val="04617b"/>
                </a:solidFill>
                <a:latin typeface="Constantia"/>
                <a:ea typeface="SimSun"/>
              </a:rPr>
              <a:t>SCHOOL-BAS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80000"/>
              </a:lnSpc>
              <a:spcBef>
                <a:spcPts val="1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Constantia"/>
                <a:ea typeface="SimSun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nstantia"/>
                <a:ea typeface="SimSun"/>
              </a:rPr>
              <a:t>Program latihan ANJURAN SEKOLA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000000"/>
                </a:solidFill>
                <a:latin typeface="Constantia"/>
                <a:ea typeface="SimSun"/>
              </a:rPr>
              <a:t>	</a:t>
            </a:r>
            <a:r>
              <a:rPr b="1" lang="sv-SE" sz="2500" spc="-1" strike="noStrike">
                <a:solidFill>
                  <a:srgbClr val="000000"/>
                </a:solidFill>
                <a:latin typeface="Constantia"/>
                <a:ea typeface="SimSun"/>
              </a:rPr>
              <a:t>	</a:t>
            </a: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Aktiviti yang diambil kira: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	</a:t>
            </a: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	</a:t>
            </a: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       </a:t>
            </a: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** Kursus</a:t>
            </a: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	</a:t>
            </a: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	</a:t>
            </a: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	</a:t>
            </a: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       </a:t>
            </a: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** Bengk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	</a:t>
            </a: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          </a:t>
            </a: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** Seminar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                 </a:t>
            </a: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** Hari Profesiona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                 </a:t>
            </a: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** Taklimat Profesiona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                 </a:t>
            </a:r>
            <a:r>
              <a:rPr b="0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** Pendedahan </a:t>
            </a:r>
            <a:r>
              <a:rPr b="0" i="1" lang="sv-SE" sz="2900" spc="-1" strike="noStrike">
                <a:solidFill>
                  <a:srgbClr val="000000"/>
                </a:solidFill>
                <a:latin typeface="Constantia"/>
                <a:ea typeface="SimSun"/>
              </a:rPr>
              <a:t>In-house Training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0880" y="1371600"/>
          <a:ext cx="8382240" cy="5257800"/>
        </p:xfrm>
        <a:graphic>
          <a:graphicData uri="http://schemas.openxmlformats.org/drawingml/2006/table">
            <a:tbl>
              <a:tblPr/>
              <a:tblGrid>
                <a:gridCol w="1005120"/>
                <a:gridCol w="1890720"/>
                <a:gridCol w="548640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wa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indak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  <a:tr h="461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.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enderam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yediakan sijil kehadiran dan sijil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engharga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guruskan tempahan makanan, tempa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an peralat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mbuat rakaman / dokumenta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guruskan kewangan kursus mengiku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rosedu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nghantar prestasi kewangan setia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</a:t>
                      </a:r>
                      <a:r>
                        <a:rPr b="0" lang="ms-MY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ujung bu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380880" y="1522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96524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38088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71600" y="91440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4572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ANAN JAWATANKU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RTA ALIRAN KERJ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lantikan Jawatankuasa LDP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Lampiran 1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laksanaan Kajian Keperlua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Soal selidik untuk semua gur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ampiran 2a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Analisis keperluan bidang kursu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ampiran (2b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RTA ALIRAN KERJ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uat Perancangan Tahunan (Lampiran 3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   Taklimat daripada JPN/PP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Pengedaran Kad Pelaporan Latih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Pengedaran Garis Panduan Pelaksanaan LD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syuarat AJK LD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Agihan bidang tug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Diadakan 2 kali setahun (setiap pengga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RTA ALIRAN KERJ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Dokumentas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Fail pengurusan LD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Fail dokumen LD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Fail pelaksanaan LD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  Kertas Kerj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Mengisi Borang Kertas Kerja (Lampiran 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Melengkapkan dan menghantar Borang Permohonan Kursus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DP (lLampiran 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Melengkapkan dan menghantar Senarai Semak Pengurusan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wangan (Lampiran 6)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Kelulusan PPD/Pengetua/Guru Besa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jalankan kursus selepas mendapat kelulusan PP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tuk sekolah bukan PTJ) atau Pengetua (PTJ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Arial"/>
                <a:ea typeface="SimSun"/>
              </a:rPr>
              <a:t>8.0 </a:t>
            </a:r>
            <a:r>
              <a:rPr b="1" lang="en-US" sz="3600" spc="-1" strike="noStrike">
                <a:solidFill>
                  <a:srgbClr val="04617b"/>
                </a:solidFill>
                <a:latin typeface="Arial"/>
                <a:ea typeface="SimSun"/>
              </a:rPr>
              <a:t>	</a:t>
            </a:r>
            <a:r>
              <a:rPr b="1" lang="en-US" sz="3600" spc="-1" strike="noStrike">
                <a:solidFill>
                  <a:srgbClr val="04617b"/>
                </a:solidFill>
                <a:latin typeface="Arial"/>
                <a:ea typeface="SimSun"/>
              </a:rPr>
              <a:t>DOKUMENTASI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</a:tabLst>
            </a:pPr>
            <a:r>
              <a:rPr b="1" lang="en-US" sz="2200" spc="-1" strike="noStrike">
                <a:solidFill>
                  <a:srgbClr val="04617b"/>
                </a:solidFill>
                <a:latin typeface="Arial"/>
                <a:ea typeface="SimSun"/>
              </a:rPr>
              <a:t>	</a:t>
            </a:r>
            <a:r>
              <a:rPr b="1" lang="en-US" sz="2200" spc="-1" strike="noStrike">
                <a:solidFill>
                  <a:srgbClr val="04617b"/>
                </a:solidFill>
                <a:latin typeface="Arial"/>
                <a:ea typeface="SimSu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</a:tabLst>
            </a:pPr>
            <a:r>
              <a:rPr b="1" lang="en-US" sz="2200" spc="-1" strike="noStrike">
                <a:solidFill>
                  <a:srgbClr val="04617b"/>
                </a:solidFill>
                <a:latin typeface="Arial"/>
                <a:ea typeface="SimSun"/>
              </a:rPr>
              <a:t>          </a:t>
            </a:r>
            <a:r>
              <a:rPr b="1" lang="en-US" sz="2800" spc="-1" strike="noStrike">
                <a:solidFill>
                  <a:srgbClr val="04617b"/>
                </a:solidFill>
                <a:latin typeface="Arial"/>
                <a:ea typeface="SimSun"/>
              </a:rPr>
              <a:t>8.1</a:t>
            </a:r>
            <a:r>
              <a:rPr b="1" lang="en-US" sz="2800" spc="-1" strike="noStrike">
                <a:solidFill>
                  <a:srgbClr val="04617b"/>
                </a:solidFill>
                <a:latin typeface="Arial"/>
                <a:ea typeface="SimSun"/>
              </a:rPr>
              <a:t>	</a:t>
            </a:r>
            <a:r>
              <a:rPr b="1" lang="en-US" sz="2800" spc="-1" strike="noStrike">
                <a:solidFill>
                  <a:srgbClr val="04617b"/>
                </a:solidFill>
                <a:latin typeface="Arial"/>
                <a:ea typeface="SimSun"/>
              </a:rPr>
              <a:t>   Pengurusan Fai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ga jenis fail perlu disediakan iaitu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1.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Fail 1 – Fail Pengurusan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sv-SE" sz="2800" spc="-1" strike="noStrike">
                <a:solidFill>
                  <a:srgbClr val="000000"/>
                </a:solidFill>
                <a:latin typeface="Arial"/>
              </a:rPr>
              <a:t>8.1.2  </a:t>
            </a:r>
            <a:r>
              <a:rPr b="1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2800" spc="-1" strike="noStrike">
                <a:solidFill>
                  <a:srgbClr val="000000"/>
                </a:solidFill>
                <a:latin typeface="Arial"/>
              </a:rPr>
              <a:t>  Fail 2 – Fail Dokumen LD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953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8.1.3 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    Fail 3 – Fail Pelaksanaan LD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Arial"/>
                <a:ea typeface="SimSun"/>
              </a:rPr>
              <a:t>8.2</a:t>
            </a:r>
            <a:r>
              <a:rPr b="1" lang="en-US" sz="2800" spc="-1" strike="noStrike">
                <a:solidFill>
                  <a:srgbClr val="04617b"/>
                </a:solidFill>
                <a:latin typeface="Arial"/>
                <a:ea typeface="SimSun"/>
              </a:rPr>
              <a:t>	</a:t>
            </a:r>
            <a:r>
              <a:rPr b="1" lang="en-US" sz="2800" spc="-1" strike="noStrike">
                <a:solidFill>
                  <a:srgbClr val="04617b"/>
                </a:solidFill>
                <a:latin typeface="Arial"/>
                <a:ea typeface="SimSun"/>
              </a:rPr>
              <a:t>Pelapora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SimSun"/>
              </a:rPr>
              <a:t>8.2.1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SimSun"/>
              </a:rPr>
              <a:t>- Pelaporan Kursus LD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SimSun"/>
              </a:rPr>
              <a:t>8.2.2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SimSun"/>
              </a:rPr>
              <a:t>- Kad Pelaporan Latih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8.2.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- Pelaporan Kursus KMLDP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Arial"/>
                <a:ea typeface="SimSun"/>
              </a:rPr>
              <a:t>8.3</a:t>
            </a:r>
            <a:r>
              <a:rPr b="1" lang="en-US" sz="2800" spc="-1" strike="noStrike">
                <a:solidFill>
                  <a:srgbClr val="04617b"/>
                </a:solidFill>
                <a:latin typeface="Arial"/>
                <a:ea typeface="SimSun"/>
              </a:rPr>
              <a:t>	</a:t>
            </a:r>
            <a:r>
              <a:rPr b="1" lang="en-US" sz="2800" spc="-1" strike="noStrike">
                <a:solidFill>
                  <a:srgbClr val="04617b"/>
                </a:solidFill>
                <a:latin typeface="Arial"/>
                <a:ea typeface="SimSun"/>
              </a:rPr>
              <a:t>Pensijilan dan Pengiktiraf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8.3.1  Sijil kehadiran disediakan oleh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ihak sekolah  dan dikeluarka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ahun sekal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800" spc="-1" strike="noStrike">
                <a:solidFill>
                  <a:srgbClr val="04617b"/>
                </a:solidFill>
                <a:latin typeface="Constantia"/>
                <a:ea typeface="SimSun"/>
              </a:rPr>
              <a:t>	</a:t>
            </a:r>
            <a:r>
              <a:rPr b="1" lang="ms-MY" sz="2800" spc="-1" strike="noStrike">
                <a:solidFill>
                  <a:srgbClr val="04617b"/>
                </a:solidFill>
                <a:latin typeface="Arial"/>
                <a:ea typeface="SimSun"/>
              </a:rPr>
              <a:t>9.0   PEMANTAUAN</a:t>
            </a:r>
            <a:r>
              <a:rPr b="1" lang="ms-MY" sz="2200" spc="-1" strike="noStrike">
                <a:solidFill>
                  <a:srgbClr val="ffff00"/>
                </a:solidFill>
                <a:latin typeface="Arial"/>
                <a:ea typeface="SimSu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200" spc="-1" strike="noStrike">
                <a:solidFill>
                  <a:srgbClr val="ffff00"/>
                </a:solidFill>
                <a:latin typeface="Arial"/>
                <a:ea typeface="SimSun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1" lang="ms-MY" sz="2800" spc="-1" strike="noStrike">
                <a:solidFill>
                  <a:srgbClr val="000000"/>
                </a:solidFill>
                <a:latin typeface="Arial"/>
                <a:ea typeface="SimSun"/>
              </a:rPr>
              <a:t>9.1  Instrumen pemantauan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800" spc="-1" strike="noStrike">
                <a:solidFill>
                  <a:srgbClr val="000000"/>
                </a:solidFill>
                <a:latin typeface="Arial"/>
                <a:ea typeface="SimSun"/>
              </a:rPr>
              <a:t>         </a:t>
            </a:r>
            <a:r>
              <a:rPr b="1" lang="ms-MY" sz="2800" spc="-1" strike="noStrike">
                <a:solidFill>
                  <a:srgbClr val="000000"/>
                </a:solidFill>
                <a:latin typeface="Arial"/>
                <a:ea typeface="SimSun"/>
              </a:rPr>
              <a:t>(Lampiran 11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1" lang="ms-MY" sz="2800" spc="-1" strike="noStrike">
                <a:solidFill>
                  <a:srgbClr val="000000"/>
                </a:solidFill>
                <a:latin typeface="Arial"/>
                <a:ea typeface="SimSun"/>
              </a:rPr>
              <a:t>9.2  Pemantau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752480" indent="-380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400" spc="-1" strike="noStrike">
                <a:solidFill>
                  <a:srgbClr val="000000"/>
                </a:solidFill>
                <a:latin typeface="Arial"/>
                <a:ea typeface="SimSun"/>
              </a:rPr>
              <a:t>     </a:t>
            </a:r>
            <a:r>
              <a:rPr b="1" lang="ms-MY" sz="2800" spc="-1" strike="noStrike">
                <a:solidFill>
                  <a:srgbClr val="000000"/>
                </a:solidFill>
                <a:latin typeface="Arial"/>
                <a:ea typeface="SimSun"/>
              </a:rPr>
              <a:t>PP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752480" indent="-380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800" spc="-1" strike="noStrike">
                <a:solidFill>
                  <a:srgbClr val="000000"/>
                </a:solidFill>
                <a:latin typeface="Arial"/>
                <a:ea typeface="SimSun"/>
              </a:rPr>
              <a:t>     </a:t>
            </a:r>
            <a:r>
              <a:rPr b="1" lang="ms-MY" sz="2800" spc="-1" strike="noStrike">
                <a:solidFill>
                  <a:srgbClr val="000000"/>
                </a:solidFill>
                <a:latin typeface="Arial"/>
                <a:ea typeface="SimSun"/>
              </a:rPr>
              <a:t>Pengetu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752480" indent="-380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800" spc="-1" strike="noStrike">
                <a:solidFill>
                  <a:srgbClr val="000000"/>
                </a:solidFill>
                <a:latin typeface="Arial"/>
                <a:ea typeface="SimSun"/>
              </a:rPr>
              <a:t>     </a:t>
            </a:r>
            <a:r>
              <a:rPr b="1" lang="ms-MY" sz="2800" spc="-1" strike="noStrike">
                <a:solidFill>
                  <a:srgbClr val="000000"/>
                </a:solidFill>
                <a:latin typeface="Arial"/>
                <a:ea typeface="SimSun"/>
              </a:rPr>
              <a:t>Guru Besa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Arial"/>
                <a:ea typeface="SimSun"/>
              </a:rPr>
              <a:t>Lampir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antikan Jawatankuasa LDP peringkat sekola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(SR/SM) - Lampiran 1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orang Matriks Kajian Keperluan LDP - Lampiran 2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orang Analisis Matriks Kajian Keperluan LDP - Lampiran 2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erancangan Tahunan - Lampiran 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Kertas kerja LDP peringkat Sekolah - Lampiran 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orang Pemohonan Kursus LDP - Lampiran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orang Senarai Semak Pengurusan Kewangan - Lampiran 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22860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603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Arial"/>
                <a:ea typeface="SimSun"/>
              </a:rPr>
              <a:t>Lampir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Borang Profil Penceramah/Fasilitator - Lampiran 7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Borang Profil Peserta - Lampiran 8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Borang Kehadiran Peserta - Lampiran 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Borang Penilaian Program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Lampiran 1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Borang Pemantauan LDP- Lampiran 1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Tapak KMLDP-Lampiran 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Senarai Semak Kandungan Fail LDP- Lampiran 13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Pelaporan Kursus LD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59112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800" spc="-1" strike="noStrike">
                <a:solidFill>
                  <a:srgbClr val="04617b"/>
                </a:solidFill>
                <a:latin typeface="Constantia"/>
                <a:ea typeface="SimSun"/>
              </a:rPr>
              <a:t>10. KHIDMAT NASIHA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400" spc="-1" strike="noStrike">
                <a:solidFill>
                  <a:srgbClr val="000000"/>
                </a:solidFill>
                <a:latin typeface="Constantia"/>
                <a:ea typeface="SimSun"/>
              </a:rPr>
              <a:t>Bahagian Pendidikan Gur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400" spc="-1" strike="noStrike">
                <a:solidFill>
                  <a:srgbClr val="000000"/>
                </a:solidFill>
                <a:latin typeface="Constantia"/>
                <a:ea typeface="SimSun"/>
              </a:rPr>
              <a:t>Kementerian Pelajara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400" spc="-1" strike="noStrike">
                <a:solidFill>
                  <a:srgbClr val="000000"/>
                </a:solidFill>
                <a:latin typeface="Constantia"/>
                <a:ea typeface="SimSun"/>
              </a:rPr>
              <a:t>Aras 2, Blok E 13, Kompleks Kerajaan Parcel E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400" spc="-1" strike="noStrike">
                <a:solidFill>
                  <a:srgbClr val="000000"/>
                </a:solidFill>
                <a:latin typeface="Constantia"/>
                <a:ea typeface="SimSun"/>
              </a:rPr>
              <a:t>Pusat Pentadbiran Kerajaan Persekutu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400" spc="-1" strike="noStrike">
                <a:solidFill>
                  <a:srgbClr val="000000"/>
                </a:solidFill>
                <a:latin typeface="Constantia"/>
                <a:ea typeface="SimSun"/>
              </a:rPr>
              <a:t>62604 PUTRAJAY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400" spc="-1" strike="noStrike">
                <a:solidFill>
                  <a:srgbClr val="000000"/>
                </a:solidFill>
                <a:latin typeface="Constantia"/>
                <a:ea typeface="SimSun"/>
              </a:rPr>
              <a:t>( U.P. : Unit Kursus Dalam Perkhidmatan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400" spc="-1" strike="noStrike">
                <a:solidFill>
                  <a:srgbClr val="000000"/>
                </a:solidFill>
                <a:latin typeface="Constantia"/>
                <a:ea typeface="SimSun"/>
              </a:rPr>
              <a:t>Tel:  03-88841307 / 03-88841291 , Faks : 03-88893570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400" spc="-1" strike="noStrike">
                <a:solidFill>
                  <a:srgbClr val="000000"/>
                </a:solidFill>
                <a:latin typeface="Constantia"/>
                <a:ea typeface="SimSu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400" spc="-1" strike="noStrike">
                <a:solidFill>
                  <a:srgbClr val="000000"/>
                </a:solidFill>
                <a:latin typeface="Constantia"/>
                <a:ea typeface="SimSun"/>
              </a:rPr>
              <a:t>ATA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400" spc="-1" strike="noStrike">
                <a:solidFill>
                  <a:srgbClr val="000000"/>
                </a:solidFill>
                <a:latin typeface="Constantia"/>
                <a:ea typeface="SimSun"/>
              </a:rPr>
              <a:t>Jabatan Pelajaran Negeri / Pejabat Pelajaran Gabungan /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400" spc="-1" strike="noStrike">
                <a:solidFill>
                  <a:srgbClr val="000000"/>
                </a:solidFill>
                <a:latin typeface="Constantia"/>
                <a:ea typeface="SimSun"/>
              </a:rPr>
              <a:t>Pejabat Pelajaran Daerah yang berhampira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66960" indent="-243000">
              <a:spcBef>
                <a:spcPts val="10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4100" spc="-1" strike="noStrike">
                <a:solidFill>
                  <a:srgbClr val="000000"/>
                </a:solidFill>
                <a:latin typeface="Constantia"/>
                <a:ea typeface="SimSun"/>
              </a:rPr>
              <a:t>Latihan dijalankan di premis sekolah sendiri kecuali kes beberapa buah sekolah menggabungkan usaha disebabkan bilangan guru yang sedikit. (Sekolah Kurang Murid atau guru-guru panitia)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lvl="2" marL="966960" indent="0">
              <a:spcBef>
                <a:spcPts val="12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  <a:p>
            <a:pPr lvl="1" marL="6094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166680">
              <a:spcBef>
                <a:spcPts val="112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4500" spc="-1" strike="noStrike">
                <a:solidFill>
                  <a:srgbClr val="000000"/>
                </a:solidFill>
                <a:latin typeface="Constantia"/>
                <a:ea typeface="SimSun"/>
              </a:rPr>
              <a:t>Kursus jangka pendek dengan mengumpulkan 6 jam dianggap sebagai 1 hari berkursus.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800" spc="-1" strike="noStrike">
                <a:solidFill>
                  <a:srgbClr val="04617b"/>
                </a:solidFill>
                <a:latin typeface="Arial"/>
                <a:ea typeface="SimSun"/>
              </a:rPr>
              <a:t>3.   OBJEKTIF</a:t>
            </a:r>
            <a:r>
              <a:rPr b="1" lang="sv-SE" sz="36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100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1009800" indent="-266760">
              <a:lnSpc>
                <a:spcPct val="80000"/>
              </a:lnSpc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4800" spc="-1" strike="noStrike">
                <a:solidFill>
                  <a:srgbClr val="000000"/>
                </a:solidFill>
                <a:latin typeface="Arial"/>
                <a:ea typeface="SimSun"/>
              </a:rPr>
              <a:t>Meningkatkan profesionalisme keguruan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lvl="1" marL="100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1009800" indent="-266760">
              <a:lnSpc>
                <a:spcPct val="80000"/>
              </a:lnSpc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4800" spc="-1" strike="noStrike">
                <a:solidFill>
                  <a:srgbClr val="000000"/>
                </a:solidFill>
                <a:latin typeface="Arial"/>
                <a:ea typeface="SimSun"/>
              </a:rPr>
              <a:t>Mendedahkan guru-guru kepada inovasi terkini dalam bidang pendidikan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4400" spc="-1" strike="noStrike">
                <a:solidFill>
                  <a:srgbClr val="000000"/>
                </a:solidFill>
                <a:latin typeface="Arial"/>
                <a:ea typeface="SimSun"/>
              </a:rPr>
              <a:t>Meningkatkan pengetahuan dan kemahiran profesionalisme keguruan secara berterusan</a:t>
            </a:r>
            <a:r>
              <a:rPr b="1" lang="ms-MY" sz="40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4000" spc="-1" strike="noStrike">
                <a:solidFill>
                  <a:srgbClr val="04617b"/>
                </a:solidFill>
                <a:latin typeface="Constantia"/>
                <a:ea typeface="SimSun"/>
              </a:rPr>
              <a:t>Mewujudkan dan memantapkan nilai dan amalan profesionalisme keguruan dalam kalangan warga pendidik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4000" spc="-1" strike="noStrike">
                <a:solidFill>
                  <a:srgbClr val="04617b"/>
                </a:solidFill>
                <a:latin typeface="Constantia"/>
                <a:ea typeface="SimSun"/>
              </a:rPr>
              <a:t>Memartabatkan profesion keguruan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560520"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onstantia"/>
                <a:ea typeface="SimSun"/>
              </a:rPr>
              <a:t>   </a:t>
            </a:r>
            <a:r>
              <a:rPr b="1" lang="en-US" sz="3200" spc="-1" strike="noStrike">
                <a:solidFill>
                  <a:srgbClr val="04617b"/>
                </a:solidFill>
                <a:latin typeface="Constantia"/>
                <a:ea typeface="SimSun"/>
              </a:rPr>
              <a:t>4. 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  <a:ea typeface="SimSun"/>
              </a:rPr>
              <a:t>    </a:t>
            </a:r>
            <a:r>
              <a:rPr b="1" lang="en-US" sz="3200" spc="-1" strike="noStrike">
                <a:solidFill>
                  <a:srgbClr val="04617b"/>
                </a:solidFill>
                <a:latin typeface="Constantia"/>
                <a:ea typeface="SimSun"/>
              </a:rPr>
              <a:t>BIDANG LATIHA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000000"/>
                </a:solidFill>
                <a:latin typeface="Constantia"/>
                <a:ea typeface="SimSun"/>
              </a:rPr>
              <a:t>            </a:t>
            </a:r>
            <a:r>
              <a:rPr b="1" lang="ms-MY" sz="3600" spc="-1" strike="noStrike">
                <a:solidFill>
                  <a:srgbClr val="04617b"/>
                </a:solidFill>
                <a:latin typeface="Constantia"/>
                <a:ea typeface="SimSun"/>
              </a:rPr>
              <a:t>A.    Pengetahuan Profesionalisme (60%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3600" spc="-1" strike="noStrike">
                <a:solidFill>
                  <a:srgbClr val="04617b"/>
                </a:solidFill>
                <a:latin typeface="Constantia"/>
                <a:ea typeface="SimSun"/>
              </a:rPr>
              <a:t>       </a:t>
            </a:r>
            <a:r>
              <a:rPr b="1" lang="ms-MY" sz="3600" spc="-1" strike="noStrike">
                <a:solidFill>
                  <a:srgbClr val="04617b"/>
                </a:solidFill>
                <a:latin typeface="Constantia"/>
                <a:ea typeface="SimSun"/>
              </a:rPr>
              <a:t>B.    Kemahiran Profesionalisme (20%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3600" spc="-1" strike="noStrike">
                <a:solidFill>
                  <a:srgbClr val="04617b"/>
                </a:solidFill>
                <a:latin typeface="Constantia"/>
                <a:ea typeface="SimSun"/>
              </a:rPr>
              <a:t>       </a:t>
            </a:r>
            <a:r>
              <a:rPr b="1" lang="ms-MY" sz="3600" spc="-1" strike="noStrike">
                <a:solidFill>
                  <a:srgbClr val="04617b"/>
                </a:solidFill>
                <a:latin typeface="Constantia"/>
                <a:ea typeface="SimSun"/>
              </a:rPr>
              <a:t>C.    Nilai dan Amalan Profesionalisme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3600" spc="-1" strike="noStrike">
                <a:solidFill>
                  <a:srgbClr val="04617b"/>
                </a:solidFill>
                <a:latin typeface="Constantia"/>
                <a:ea typeface="SimSun"/>
              </a:rPr>
              <a:t>               </a:t>
            </a:r>
            <a:r>
              <a:rPr b="1" lang="ms-MY" sz="3600" spc="-1" strike="noStrike">
                <a:solidFill>
                  <a:srgbClr val="04617b"/>
                </a:solidFill>
                <a:latin typeface="Constantia"/>
                <a:ea typeface="SimSun"/>
              </a:rPr>
              <a:t>Keguruan (20%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11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  <a:ea typeface="SimSun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4:39:36Z</dcterms:created>
  <dc:creator>DELL</dc:creator>
  <dc:description/>
  <dc:language>en-US</dc:language>
  <cp:lastModifiedBy>KPM</cp:lastModifiedBy>
  <dcterms:modified xsi:type="dcterms:W3CDTF">2009-08-27T04:43:37Z</dcterms:modified>
  <cp:revision>55</cp:revision>
  <dc:subject/>
  <dc:title>JAWATANKUASA KURIKULUM SMK KIDURONG 2009</dc:title>
</cp:coreProperties>
</file>